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6C62-280A-4D9A-B2F6-B2419B31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669-F705-4E9C-84D0-B0443461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9575-7449-409E-AF41-3F278CC8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C1E-D3AD-4240-B1E6-44D9C5ED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318A-8272-421B-B05E-B9473C5D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1BA3-90B4-4DF3-9103-29B0F709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4726-0AF9-46A2-B0AD-58D0FC40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BD37-81D0-4B7F-A241-08FD3723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C0F3-3202-4ED2-821E-8706AD4A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6CA4-5F18-4D14-88CB-24891779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0FB7-CBF6-46EB-83EF-C74518CA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395D-E2EE-418D-9921-143CED46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F4D7-97DB-49EC-A9E3-B793317B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C380-EB51-44DF-B455-C27D05FA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4B13-5813-4DAD-8403-85E31F92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8F2F-F93D-4D77-9512-DBA6C0E8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8095-E9C1-487B-8DA1-75D8E4DF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DEEB-F940-4763-84B5-D7C4AF15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04A-47A3-4CD0-A633-E1BC3AD8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18EF-CDD1-495D-8F60-7CA89F42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146-48DC-466E-9E97-DEAA16A1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622-0E70-4BDC-9CA3-C8517102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6C97-DD1A-4544-AD52-D8309357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DD53-91A7-4145-AC9D-FE297BE1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2CB4-9933-4D2E-9707-1D436E103E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E2FF-2046-491D-A698-7EC7AA9B9D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RITING MINI LESSON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DEAS FOR WRITING ESSAY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0" r="4411" b="6884"/>
          <a:stretch/>
        </p:blipFill>
        <p:spPr>
          <a:xfrm>
            <a:off x="228600" y="-38160"/>
            <a:ext cx="84582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4803840" cy="3183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6867" t="0" r="12477" b="0"/>
          <a:stretch/>
        </p:blipFill>
        <p:spPr>
          <a:xfrm>
            <a:off x="1752480" y="0"/>
            <a:ext cx="48276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486400" y="3657600"/>
            <a:ext cx="3444840" cy="2295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952880" y="457200"/>
            <a:ext cx="3810240" cy="2495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0" y="2590920"/>
            <a:ext cx="20858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48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19:23:47Z</dcterms:created>
  <dc:creator>nbdoe</dc:creator>
  <dc:description/>
  <dc:language>en-US</dc:language>
  <cp:lastModifiedBy>nbdoe</cp:lastModifiedBy>
  <dcterms:modified xsi:type="dcterms:W3CDTF">2007-04-06T19:44:51Z</dcterms:modified>
  <cp:revision>2</cp:revision>
  <dc:subject/>
  <dc:title>Slide 1</dc:title>
</cp:coreProperties>
</file>